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7.png" ContentType="image/pn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77BE-B430-4409-975A-344129F99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0455-548C-4942-8827-8A5267E46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835AA-12AF-412D-806B-297E9036B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F0B-E786-405D-BF32-EFC4EBD43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76A9-3BB6-4F3C-955D-10A069F6D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C335-D668-4460-B5C2-C77001B1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9256-2A6E-44DC-BC99-DF9C65ED7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E8EB-A7E1-46B6-A254-BD2FB5FB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7525-50A4-4DAA-90C0-29C99C727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4B65-8FC6-4EE4-A06A-0E0E5295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5201-D729-464A-B11F-3B4F5A883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C836C-A30D-4C99-BD7F-EF40EC59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F19BD-C595-4FD8-8F8F-BBF52D03F6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320840"/>
            <a:ext cx="8445600" cy="30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omic Sans MS"/>
              </a:rPr>
              <a:t>Total Participation Techniques</a:t>
            </a:r>
            <a:br>
              <a:rPr sz="4800"/>
            </a:b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ersida Himmele &amp; William Himmel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5486400"/>
            <a:ext cx="6615360" cy="92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Overview Provided by WSU MEd in CI,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I 837 Students, Fall 2011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4: On-the-Spot TP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295440" y="1219320"/>
            <a:ext cx="6265800" cy="887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... More on-the-spot TPTs..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Processing Cards: "Still Thinking" or "Ready to Share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Similes: Show relationships between topic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Ranking: Sequencing items, order of importance, etc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Numbered Heads Together: Assign numbers to students in a group, after project completion, call a number to have share their group's informati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umbs Up/Down Vote: Thumb up to vote "Yes". down to vote "No"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7969320" y="6603840"/>
            <a:ext cx="1857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. Goug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6" descr=""/>
          <p:cNvPicPr/>
          <p:nvPr/>
        </p:nvPicPr>
        <p:blipFill>
          <a:blip r:embed="rId1"/>
          <a:stretch/>
        </p:blipFill>
        <p:spPr>
          <a:xfrm>
            <a:off x="711360" y="274320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5: TPT Hold-Up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52600" y="1422000"/>
            <a:ext cx="4487760" cy="60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What are hold-ups?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Hold-ups are interactive activities that use response cards.  Students confer with a partner or small group and respond to a question by holding up a card with their answer on it. 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Why use hold-ups in my classroom?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Hold-ups improve student participation and on-task behavio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324040" y="1823760"/>
            <a:ext cx="4581720" cy="54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                   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K. Mast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5283360" y="2235240"/>
            <a:ext cx="4330440" cy="31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5: TPT Hold-Up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47320" y="1523520"/>
            <a:ext cx="9661320" cy="573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1.  Selected-Response Hold-Ups - Students hold up cards that may include responses such as fact/opinion, true/false, pictures, facial expressions, or yes/no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2.  Number Card Hold-Ups - Student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respond to mathematical questions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ith 0-9 number car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3.  True/Not True Hold-Ups - Students respond to questions in all content areas with true, not true, true with modifications, or unable to determin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6705720" y="2946240"/>
            <a:ext cx="2801880" cy="18687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5"/>
          <p:cNvSpPr/>
          <p:nvPr/>
        </p:nvSpPr>
        <p:spPr>
          <a:xfrm>
            <a:off x="7969320" y="6705720"/>
            <a:ext cx="1697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K. Mast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5: TPT Hold-Up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9200" y="1625760"/>
            <a:ext cx="5772240" cy="546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4.  Multiple-Choice Hold-Ups - Students signal their response to a question by holding up A,B,C, or D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5.  Whiteboard Hold-Ups - Students use individual whiteboards to respond with an answer.  The possibilities of choices to respond with are much wid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5" descr=""/>
          <p:cNvPicPr/>
          <p:nvPr/>
        </p:nvPicPr>
        <p:blipFill>
          <a:blip r:embed="rId1"/>
          <a:stretch/>
        </p:blipFill>
        <p:spPr>
          <a:xfrm>
            <a:off x="6299280" y="3352680"/>
            <a:ext cx="2822400" cy="2637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461360" y="6502320"/>
            <a:ext cx="210492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K.Mast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C</a:t>
            </a:r>
            <a:r>
              <a:rPr b="0" lang="en-US" sz="4300" spc="-1" strike="noStrike">
                <a:solidFill>
                  <a:srgbClr val="0000ff"/>
                </a:solidFill>
                <a:latin typeface="Comic Sans MS"/>
              </a:rPr>
              <a:t>h</a:t>
            </a:r>
            <a:r>
              <a:rPr b="0" lang="en-US" sz="43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0" lang="en-US" sz="43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4300" spc="-1" strike="noStrike">
                <a:solidFill>
                  <a:srgbClr val="ff9900"/>
                </a:solidFill>
                <a:latin typeface="Comic Sans MS"/>
              </a:rPr>
              <a:t>t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r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300" spc="-1" strike="noStrike">
                <a:solidFill>
                  <a:srgbClr val="0000ff"/>
                </a:solidFill>
                <a:latin typeface="Comic Sans MS"/>
              </a:rPr>
              <a:t>6</a:t>
            </a:r>
            <a:r>
              <a:rPr b="0" lang="en-US" sz="4300" spc="-1" strike="noStrike">
                <a:solidFill>
                  <a:srgbClr val="00ff00"/>
                </a:solidFill>
                <a:latin typeface="Comic Sans MS"/>
              </a:rPr>
              <a:t>: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300" spc="-1" strike="noStrike">
                <a:solidFill>
                  <a:srgbClr val="ffff00"/>
                </a:solidFill>
                <a:latin typeface="Comic Sans MS"/>
              </a:rPr>
              <a:t>T</a:t>
            </a:r>
            <a:r>
              <a:rPr b="0" lang="en-US" sz="4300" spc="-1" strike="noStrike">
                <a:solidFill>
                  <a:srgbClr val="ff9900"/>
                </a:solidFill>
                <a:latin typeface="Comic Sans MS"/>
              </a:rPr>
              <a:t>P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'</a:t>
            </a:r>
            <a:r>
              <a:rPr b="0" lang="en-US" sz="4300" spc="-1" strike="noStrike">
                <a:solidFill>
                  <a:srgbClr val="0000ff"/>
                </a:solidFill>
                <a:latin typeface="Comic Sans MS"/>
              </a:rPr>
              <a:t>s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300" spc="-1" strike="noStrike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43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4300" spc="-1" strike="noStrike">
                <a:solidFill>
                  <a:srgbClr val="ff9900"/>
                </a:solidFill>
                <a:latin typeface="Comic Sans MS"/>
              </a:rPr>
              <a:t>v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o</a:t>
            </a: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l</a:t>
            </a:r>
            <a:r>
              <a:rPr b="0" lang="en-US" sz="4300" spc="-1" strike="noStrike">
                <a:solidFill>
                  <a:srgbClr val="0000ff"/>
                </a:solidFill>
                <a:latin typeface="Comic Sans MS"/>
              </a:rPr>
              <a:t>v</a:t>
            </a:r>
            <a:r>
              <a:rPr b="0" lang="en-US" sz="4300" spc="-1" strike="noStrike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4300" spc="-1" strike="noStrike">
                <a:solidFill>
                  <a:srgbClr val="ffff00"/>
                </a:solidFill>
                <a:latin typeface="Comic Sans MS"/>
              </a:rPr>
              <a:t>n</a:t>
            </a:r>
            <a:r>
              <a:rPr b="0" lang="en-US" sz="4300" spc="-1" strike="noStrike">
                <a:solidFill>
                  <a:srgbClr val="ff9900"/>
                </a:solidFill>
                <a:latin typeface="Comic Sans MS"/>
              </a:rPr>
              <a:t>g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m</a:t>
            </a: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o</a:t>
            </a:r>
            <a:r>
              <a:rPr b="0" lang="en-US" sz="4300" spc="-1" strike="noStrike">
                <a:solidFill>
                  <a:srgbClr val="0000ff"/>
                </a:solidFill>
                <a:latin typeface="Comic Sans MS"/>
              </a:rPr>
              <a:t>v</a:t>
            </a:r>
            <a:r>
              <a:rPr b="0" lang="en-US" sz="4300" spc="-1" strike="noStrike">
                <a:solidFill>
                  <a:srgbClr val="00ff00"/>
                </a:solidFill>
                <a:latin typeface="Comic Sans MS"/>
              </a:rPr>
              <a:t>e</a:t>
            </a:r>
            <a:r>
              <a:rPr b="0" lang="en-US" sz="4300" spc="-1" strike="noStrike">
                <a:solidFill>
                  <a:srgbClr val="ffff00"/>
                </a:solidFill>
                <a:latin typeface="Comic Sans MS"/>
              </a:rPr>
              <a:t>m</a:t>
            </a:r>
            <a:r>
              <a:rPr b="0" lang="en-US" sz="4300" spc="-1" strike="noStrike">
                <a:solidFill>
                  <a:srgbClr val="ff9900"/>
                </a:solidFill>
                <a:latin typeface="Comic Sans MS"/>
              </a:rPr>
              <a:t>e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n</a:t>
            </a: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9760" y="1829880"/>
            <a:ext cx="4579920" cy="547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ovement forms links with memo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Boys demonstrate high scores, better behaviors, and postive attitudes with lesson moveme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Comic Sans MS"/>
              </a:rPr>
              <a:t>J</a:t>
            </a:r>
            <a:r>
              <a:rPr b="0" lang="en-US" sz="2700" spc="-1" strike="noStrike">
                <a:solidFill>
                  <a:srgbClr val="0000ff"/>
                </a:solidFill>
                <a:latin typeface="Comic Sans MS"/>
              </a:rPr>
              <a:t>F</a:t>
            </a:r>
            <a:r>
              <a:rPr b="0" lang="en-US" sz="2700" spc="-1" strike="noStrike">
                <a:solidFill>
                  <a:srgbClr val="00ff00"/>
                </a:solidFill>
                <a:latin typeface="Comic Sans MS"/>
              </a:rPr>
              <a:t>i</a:t>
            </a:r>
            <a:r>
              <a:rPr b="0" lang="en-US" sz="2700" spc="-1" strike="noStrike">
                <a:solidFill>
                  <a:srgbClr val="ffff00"/>
                </a:solidFill>
                <a:latin typeface="Comic Sans MS"/>
              </a:rPr>
              <a:t>s</a:t>
            </a:r>
            <a:r>
              <a:rPr b="0" lang="en-US" sz="2700" spc="-1" strike="noStrike">
                <a:solidFill>
                  <a:srgbClr val="ff9900"/>
                </a:solidFill>
                <a:latin typeface="Comic Sans MS"/>
              </a:rPr>
              <a:t>h</a:t>
            </a:r>
            <a:r>
              <a:rPr b="0" lang="en-US" sz="27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2700" spc="-1" strike="noStrike">
                <a:solidFill>
                  <a:srgbClr val="9900ff"/>
                </a:solidFill>
                <a:latin typeface="Comic Sans MS"/>
              </a:rPr>
              <a:t>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327280" y="4855680"/>
            <a:ext cx="4527720" cy="245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his chapter gave techniques that used object manipulation, out of seat action, and interaction among peer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5689440" y="1709640"/>
            <a:ext cx="2946600" cy="27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7960" y="294840"/>
            <a:ext cx="9663120" cy="90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C</a:t>
            </a:r>
            <a:r>
              <a:rPr b="0" lang="en-US" sz="4300" spc="-1" strike="noStrike">
                <a:solidFill>
                  <a:srgbClr val="0000ff"/>
                </a:solidFill>
                <a:latin typeface="Comic Sans MS"/>
              </a:rPr>
              <a:t>h</a:t>
            </a:r>
            <a:r>
              <a:rPr b="0" lang="en-US" sz="43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0" lang="en-US" sz="43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4300" spc="-1" strike="noStrike">
                <a:solidFill>
                  <a:srgbClr val="ff9900"/>
                </a:solidFill>
                <a:latin typeface="Comic Sans MS"/>
              </a:rPr>
              <a:t>t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300" spc="-1" strike="noStrike">
                <a:solidFill>
                  <a:srgbClr val="ff00ff"/>
                </a:solidFill>
                <a:latin typeface="Comic Sans MS"/>
              </a:rPr>
              <a:t>r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6</a:t>
            </a:r>
            <a:r>
              <a:rPr b="0" lang="en-US" sz="4300" spc="-1" strike="noStrike">
                <a:solidFill>
                  <a:srgbClr val="0000ff"/>
                </a:solidFill>
                <a:latin typeface="Comic Sans MS"/>
              </a:rPr>
              <a:t>: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300" spc="-1" strike="noStrike">
                <a:solidFill>
                  <a:srgbClr val="00ff00"/>
                </a:solidFill>
                <a:latin typeface="Comic Sans MS"/>
              </a:rPr>
              <a:t>T</a:t>
            </a:r>
            <a:r>
              <a:rPr b="0" lang="en-US" sz="43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4300" spc="-1" strike="noStrike">
                <a:solidFill>
                  <a:srgbClr val="ff9900"/>
                </a:solidFill>
                <a:latin typeface="Comic Sans MS"/>
              </a:rPr>
              <a:t>T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4300" spc="-1" strike="noStrike">
                <a:solidFill>
                  <a:srgbClr val="ff00ff"/>
                </a:solidFill>
                <a:latin typeface="Comic Sans MS"/>
              </a:rPr>
              <a:t>e</a:t>
            </a: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c</a:t>
            </a:r>
            <a:r>
              <a:rPr b="0" lang="en-US" sz="4300" spc="-1" strike="noStrike">
                <a:solidFill>
                  <a:srgbClr val="0000ff"/>
                </a:solidFill>
                <a:latin typeface="Comic Sans MS"/>
              </a:rPr>
              <a:t>h</a:t>
            </a:r>
            <a:r>
              <a:rPr b="0" lang="en-US" sz="4300" spc="-1" strike="noStrike">
                <a:solidFill>
                  <a:srgbClr val="00ff00"/>
                </a:solidFill>
                <a:latin typeface="Comic Sans MS"/>
              </a:rPr>
              <a:t>n</a:t>
            </a:r>
            <a:r>
              <a:rPr b="0" lang="en-US" sz="43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4300" spc="-1" strike="noStrike">
                <a:solidFill>
                  <a:srgbClr val="ff9900"/>
                </a:solidFill>
                <a:latin typeface="Comic Sans MS"/>
              </a:rPr>
              <a:t>q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u</a:t>
            </a:r>
            <a:r>
              <a:rPr b="0" lang="en-US" sz="4300" spc="-1" strike="noStrike">
                <a:solidFill>
                  <a:srgbClr val="ff00ff"/>
                </a:solidFill>
                <a:latin typeface="Comic Sans MS"/>
              </a:rPr>
              <a:t>e</a:t>
            </a: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s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        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J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9900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00ff"/>
                </a:solidFill>
                <a:latin typeface="Comic Sans MS"/>
              </a:rPr>
              <a:t>1.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9900ff"/>
                </a:solidFill>
                <a:latin typeface="Comic Sans MS"/>
              </a:rPr>
              <a:t>line-ups &amp; inside-outside circle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2.</a:t>
            </a: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Three 3's in a row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mic Sans MS"/>
              </a:rPr>
              <a:t>3. Networking Session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4. Categorizing and sorting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Comic Sans MS"/>
              </a:rPr>
              <a:t>5. Appointment Agendas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15920" y="1726920"/>
            <a:ext cx="5272200" cy="55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9900ff"/>
                </a:solidFill>
                <a:latin typeface="Comic Sans MS"/>
              </a:rPr>
              <a:t>Students line up in 2 lines &amp; take turns asking questions &amp; answering question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ff"/>
                </a:solidFill>
                <a:latin typeface="Comic Sans MS"/>
              </a:rPr>
              <a:t>Bingo activity in which peers explain answers generated by teacher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ff00"/>
                </a:solidFill>
                <a:latin typeface="Comic Sans MS"/>
              </a:rPr>
              <a:t>Students find different kids to partner with to answer each question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00"/>
                </a:solidFill>
                <a:latin typeface="Comic Sans MS"/>
              </a:rPr>
              <a:t>Students sort objects into different pil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9900"/>
                </a:solidFill>
                <a:latin typeface="Comic Sans MS"/>
              </a:rPr>
              <a:t>Teacher provides sign up sheets for students to sign up answer questions each hour with different partner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C</a:t>
            </a:r>
            <a:r>
              <a:rPr b="0" lang="en-US" sz="4300" spc="-1" strike="noStrike">
                <a:solidFill>
                  <a:srgbClr val="0000ff"/>
                </a:solidFill>
                <a:latin typeface="Comic Sans MS"/>
              </a:rPr>
              <a:t>h</a:t>
            </a:r>
            <a:r>
              <a:rPr b="0" lang="en-US" sz="4300" spc="-1" strike="noStrike">
                <a:solidFill>
                  <a:srgbClr val="00ff00"/>
                </a:solidFill>
                <a:latin typeface="Comic Sans MS"/>
              </a:rPr>
              <a:t>a</a:t>
            </a:r>
            <a:r>
              <a:rPr b="0" lang="en-US" sz="43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4300" spc="-1" strike="noStrike">
                <a:solidFill>
                  <a:srgbClr val="ff9900"/>
                </a:solidFill>
                <a:latin typeface="Comic Sans MS"/>
              </a:rPr>
              <a:t>t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e</a:t>
            </a:r>
            <a:r>
              <a:rPr b="0" lang="en-US" sz="4300" spc="-1" strike="noStrike">
                <a:solidFill>
                  <a:srgbClr val="ff00ff"/>
                </a:solidFill>
                <a:latin typeface="Comic Sans MS"/>
              </a:rPr>
              <a:t>r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6</a:t>
            </a:r>
            <a:r>
              <a:rPr b="0" lang="en-US" sz="4300" spc="-1" strike="noStrike">
                <a:solidFill>
                  <a:srgbClr val="0000ff"/>
                </a:solidFill>
                <a:latin typeface="Comic Sans MS"/>
              </a:rPr>
              <a:t>: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300" spc="-1" strike="noStrike">
                <a:solidFill>
                  <a:srgbClr val="00ff00"/>
                </a:solidFill>
                <a:latin typeface="Comic Sans MS"/>
              </a:rPr>
              <a:t>T</a:t>
            </a:r>
            <a:r>
              <a:rPr b="0" lang="en-US" sz="4300" spc="-1" strike="noStrike">
                <a:solidFill>
                  <a:srgbClr val="ffff00"/>
                </a:solidFill>
                <a:latin typeface="Comic Sans MS"/>
              </a:rPr>
              <a:t>P</a:t>
            </a:r>
            <a:r>
              <a:rPr b="0" lang="en-US" sz="4300" spc="-1" strike="noStrike">
                <a:solidFill>
                  <a:srgbClr val="ff9900"/>
                </a:solidFill>
                <a:latin typeface="Comic Sans MS"/>
              </a:rPr>
              <a:t>T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t</a:t>
            </a:r>
            <a:r>
              <a:rPr b="0" lang="en-US" sz="4300" spc="-1" strike="noStrike">
                <a:solidFill>
                  <a:srgbClr val="ff00ff"/>
                </a:solidFill>
                <a:latin typeface="Comic Sans MS"/>
              </a:rPr>
              <a:t>e</a:t>
            </a: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c</a:t>
            </a:r>
            <a:r>
              <a:rPr b="0" lang="en-US" sz="4300" spc="-1" strike="noStrike">
                <a:solidFill>
                  <a:srgbClr val="0000ff"/>
                </a:solidFill>
                <a:latin typeface="Comic Sans MS"/>
              </a:rPr>
              <a:t>h</a:t>
            </a:r>
            <a:r>
              <a:rPr b="0" lang="en-US" sz="4300" spc="-1" strike="noStrike">
                <a:solidFill>
                  <a:srgbClr val="00ff00"/>
                </a:solidFill>
                <a:latin typeface="Comic Sans MS"/>
              </a:rPr>
              <a:t>n</a:t>
            </a:r>
            <a:r>
              <a:rPr b="0" lang="en-US" sz="43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4300" spc="-1" strike="noStrike">
                <a:solidFill>
                  <a:srgbClr val="ff9900"/>
                </a:solidFill>
                <a:latin typeface="Comic Sans MS"/>
              </a:rPr>
              <a:t>q</a:t>
            </a:r>
            <a:r>
              <a:rPr b="0" lang="en-US" sz="4300" spc="-1" strike="noStrike">
                <a:solidFill>
                  <a:srgbClr val="ff0000"/>
                </a:solidFill>
                <a:latin typeface="Comic Sans MS"/>
              </a:rPr>
              <a:t>u</a:t>
            </a:r>
            <a:r>
              <a:rPr b="0" lang="en-US" sz="4300" spc="-1" strike="noStrike">
                <a:solidFill>
                  <a:srgbClr val="ff00ff"/>
                </a:solidFill>
                <a:latin typeface="Comic Sans MS"/>
              </a:rPr>
              <a:t>e</a:t>
            </a:r>
            <a:r>
              <a:rPr b="0" lang="en-US" sz="4300" spc="-1" strike="noStrike">
                <a:solidFill>
                  <a:srgbClr val="9900ff"/>
                </a:solidFill>
                <a:latin typeface="Comic Sans MS"/>
              </a:rPr>
              <a:t>s</a:t>
            </a: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         </a:t>
            </a: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J</a:t>
            </a:r>
            <a:r>
              <a:rPr b="0" lang="en-US" sz="1800" spc="-1" strike="noStrike">
                <a:solidFill>
                  <a:srgbClr val="00ff00"/>
                </a:solidFill>
                <a:latin typeface="Comic Sans MS"/>
              </a:rPr>
              <a:t>F</a:t>
            </a:r>
            <a:r>
              <a:rPr b="0" lang="en-US" sz="1800" spc="-1" strike="noStrike">
                <a:solidFill>
                  <a:srgbClr val="ffff00"/>
                </a:solidFill>
                <a:latin typeface="Comic Sans MS"/>
              </a:rPr>
              <a:t>i</a:t>
            </a:r>
            <a:r>
              <a:rPr b="0" lang="en-US" sz="1800" spc="-1" strike="noStrike">
                <a:solidFill>
                  <a:srgbClr val="ff9900"/>
                </a:solidFill>
                <a:latin typeface="Comic Sans MS"/>
              </a:rPr>
              <a:t>s</a:t>
            </a: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h</a:t>
            </a:r>
            <a:r>
              <a:rPr b="0" lang="en-US" sz="1800" spc="-1" strike="noStrike">
                <a:solidFill>
                  <a:srgbClr val="ff00ff"/>
                </a:solidFill>
                <a:latin typeface="Comic Sans MS"/>
              </a:rPr>
              <a:t>e</a:t>
            </a:r>
            <a:r>
              <a:rPr b="0" lang="en-US" sz="1800" spc="-1" strike="noStrike">
                <a:solidFill>
                  <a:srgbClr val="9900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15640" y="1828800"/>
            <a:ext cx="432252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omic Sans MS"/>
              </a:rPr>
              <a:t>6. Bounce Card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00ff"/>
                </a:solidFill>
                <a:latin typeface="Comic Sans MS"/>
              </a:rPr>
              <a:t>7. Mouth it, air write it, show me using your finger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ff"/>
                </a:solidFill>
                <a:latin typeface="Comic Sans MS"/>
              </a:rPr>
              <a:t> </a:t>
            </a:r>
            <a:r>
              <a:rPr b="0" lang="en-US" sz="1900" spc="-1" strike="noStrike">
                <a:solidFill>
                  <a:srgbClr val="0000ff"/>
                </a:solidFill>
                <a:latin typeface="Comic Sans MS"/>
              </a:rPr>
              <a:t>8. Acting it out, role-plays, and charade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00"/>
                </a:solidFill>
                <a:latin typeface="Comic Sans MS"/>
              </a:rPr>
              <a:t>9. Simulation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Comic Sans MS"/>
              </a:rPr>
              <a:t>10. Cut-and-pates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14400" y="1828800"/>
            <a:ext cx="5373720" cy="545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1900" spc="-1" strike="noStrike">
                <a:solidFill>
                  <a:srgbClr val="ff0000"/>
                </a:solidFill>
                <a:latin typeface="Comic Sans MS"/>
              </a:rPr>
              <a:t>Card that gives prompts like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omic Sans MS"/>
              </a:rPr>
              <a:t>"I agree, because...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omic Sans MS"/>
              </a:rPr>
              <a:t>"True, another example is when...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omic Sans MS"/>
              </a:rPr>
              <a:t>"So, if I understand you...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0000"/>
                </a:solidFill>
                <a:latin typeface="Comic Sans MS"/>
              </a:rPr>
              <a:t>"I see your point, but what ....?"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9900ff"/>
                </a:solidFill>
                <a:latin typeface="Comic Sans MS"/>
              </a:rPr>
              <a:t> </a:t>
            </a:r>
            <a:r>
              <a:rPr b="0" lang="en-US" sz="1900" spc="-1" strike="noStrike">
                <a:solidFill>
                  <a:srgbClr val="9900ff"/>
                </a:solidFill>
                <a:latin typeface="Comic Sans MS"/>
              </a:rPr>
              <a:t>have all the students share their answers at the same tim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1900" spc="-1" strike="noStrike">
                <a:solidFill>
                  <a:srgbClr val="0000ff"/>
                </a:solidFill>
                <a:latin typeface="Comic Sans MS"/>
              </a:rPr>
              <a:t>physical movement to present idea or vocabulary word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ff00"/>
                </a:solidFill>
                <a:latin typeface="Comic Sans MS"/>
              </a:rPr>
              <a:t>experiencing life through someone elses ey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00"/>
                </a:solidFill>
                <a:latin typeface="Comic Sans MS"/>
              </a:rPr>
              <a:t>using scissors to cut paper and glue it to another paper in a different order to organizer inform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6456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b45f06"/>
                </a:solidFill>
                <a:latin typeface="Comic Sans MS"/>
              </a:rPr>
              <a:t>Chapter 7: TPTs to Guide Notetaking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Note-taking is a skill that should be taught to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PTs allow students to stop and process newly acquired information presented to them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PTs should be used every 8-10 minutes during a less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PTs should not be used just as a closing activity but throughout to help students comprehensio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45f06"/>
                </a:solidFill>
                <a:latin typeface="Comic Sans MS"/>
              </a:rPr>
              <a:t>Chapter 7: TPTs to Guide Notetak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7680" y="1422000"/>
            <a:ext cx="966456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69138"/>
                </a:solidFill>
                <a:latin typeface="Comic Sans MS"/>
              </a:rPr>
              <a:t>Confer, Compare, and Clarify:</a:t>
            </a:r>
            <a:r>
              <a:rPr b="0" lang="en-US" sz="2700" spc="-1" strike="noStrike">
                <a:solidFill>
                  <a:srgbClr val="e69138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llows students to see others notes, reflect on lesson content and ask questions to aid in comprehens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69138"/>
                </a:solidFill>
                <a:latin typeface="Comic Sans MS"/>
              </a:rPr>
              <a:t>Graphic Organizers and Prepared Packets: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elps students with the most important information within the lesson using visual sup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69138"/>
                </a:solidFill>
                <a:latin typeface="Comic Sans MS"/>
              </a:rPr>
              <a:t>Anticipatory Guides: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llows students to make predictions about new learning and follow-up after new learn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69138"/>
                </a:solidFill>
                <a:latin typeface="Comic Sans MS"/>
              </a:rPr>
              <a:t>Picture Notes: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elps students process newly acquired information by drawing pictures at preselected times during the lesson (accompanies written notes)</a:t>
            </a:r>
            <a:r>
              <a:rPr b="1" lang="en-US" sz="2700" spc="-1" strike="noStrike">
                <a:solidFill>
                  <a:srgbClr val="ffffff"/>
                </a:solidFill>
                <a:latin typeface="Comic Sans MS"/>
              </a:rPr>
              <a:t>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45f06"/>
                </a:solidFill>
                <a:latin typeface="Comic Sans MS"/>
              </a:rPr>
              <a:t>Chapter 7: TPTs to Guide Notetak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47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69138"/>
                </a:solidFill>
                <a:latin typeface="Comic Sans MS"/>
              </a:rPr>
              <a:t>Lecture T-Chart:</a:t>
            </a:r>
            <a:r>
              <a:rPr b="0" lang="en-US" sz="2700" spc="-1" strike="noStrike">
                <a:solidFill>
                  <a:srgbClr val="e69138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take written notes during lecture and at preselected times are allowed to summarize using words/drawing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69138"/>
                </a:solidFill>
                <a:latin typeface="Comic Sans MS"/>
              </a:rPr>
              <a:t>3-Sentence Wrap Up: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summarize notes in 3 sentences using the most important information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69138"/>
                </a:solidFill>
                <a:latin typeface="Comic Sans MS"/>
              </a:rPr>
              <a:t>A-Z Sentence Summaries: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each student is given a letter of the alphabet and writes a summary sentence using their letter; creates whole class summar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69138"/>
                </a:solidFill>
                <a:latin typeface="Comic Sans MS"/>
              </a:rPr>
              <a:t>Pause, Star, Rank: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review notes to clarify information and rank the 3 most important poi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2640" y="299520"/>
            <a:ext cx="9659880" cy="151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1: </a:t>
            </a:r>
            <a:r>
              <a:rPr b="0" i="1" lang="en-US" sz="4300" spc="-1" strike="noStrike">
                <a:solidFill>
                  <a:srgbClr val="ffffff"/>
                </a:solidFill>
                <a:latin typeface="Comic Sans MS"/>
              </a:rPr>
              <a:t>The High Cost of Disengage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9120" y="1827360"/>
            <a:ext cx="966168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Question and answer techniques engage only a few students in a classroom. (jc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 teacher's effectiveness has direct impact on the quality of education students receive. (rb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ll people need to think about what they are taught, record their thoughts, compare what they have learned, and ask questions. (Jfishel)  .................Page 4 paragraph 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n effective teacher has a tremendously positive effect on students--even more than class size, race, or SES.  (SS, page 6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b45f06"/>
                </a:solidFill>
                <a:latin typeface="Comic Sans MS"/>
              </a:rPr>
              <a:t>Chapter 7: TPTs to Guide Notetaking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7680" y="1422000"/>
            <a:ext cx="9664560" cy="593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69138"/>
                </a:solidFill>
                <a:latin typeface="Comic Sans MS"/>
              </a:rPr>
              <a:t>Key-Word Dance:</a:t>
            </a:r>
            <a:r>
              <a:rPr b="0" lang="en-US" sz="2700" spc="-1" strike="noStrike">
                <a:solidFill>
                  <a:srgbClr val="e69138"/>
                </a:solidFill>
                <a:latin typeface="Comic Sans MS"/>
              </a:rPr>
              <a:t> 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select most important words associated with topic in notes and create a poem for understand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69138"/>
                </a:solidFill>
                <a:latin typeface="Comic Sans MS"/>
              </a:rPr>
              <a:t>Debate Team Carousel: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group up in teams of four and complete graphic organizer creating supporting and opposing argum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e6913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e69138"/>
                </a:solidFill>
                <a:latin typeface="Comic Sans MS"/>
              </a:rPr>
              <a:t>Technology-Based TPTs: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reates total engagement of all studen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blogging: student reply to prompts and are allowed to leave others feedbac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lassroom clickers: fun way to review content in a variety of form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9120" y="306360"/>
            <a:ext cx="966168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9999"/>
                </a:solidFill>
                <a:latin typeface="Comic Sans MS"/>
              </a:rPr>
              <a:t>Chapter 8: TPTs as Formative Assessment Tool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hat are Formative Assessment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ssessments that let the teacher know if students understand the topi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Results are used by the teacher to guide lessons plans and pacing.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"Formative assessments can have powerful positive results on student learning because teacher behavior becomes informed and instruction becomes targeted toward specific needs (pg. 103)."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im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9120" y="306360"/>
            <a:ext cx="966168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9999"/>
                </a:solidFill>
                <a:latin typeface="Comic Sans MS"/>
              </a:rPr>
              <a:t>Chapter 8: TPTs as </a:t>
            </a:r>
            <a:br>
              <a:rPr sz="3500"/>
            </a:br>
            <a:r>
              <a:rPr b="0" lang="en-US" sz="3500" spc="-1" strike="noStrike">
                <a:solidFill>
                  <a:srgbClr val="ea9999"/>
                </a:solidFill>
                <a:latin typeface="Comic Sans MS"/>
              </a:rPr>
              <a:t>Formative Assessment Tool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Formative Assessment Activitie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Comic Sans MS"/>
              </a:rPr>
              <a:t>Chalkboard Splashes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: After a reading students take turns writing ideas on the board and visiting with their peers.  Then students look for similarities, differences and surprises.  Teachers will see terms that students find confusing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Comic Sans MS"/>
              </a:rPr>
              <a:t>Hold-Up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: Is a quick assessment to let teachers know if students understand a concept.  This activity can be followed up with chalkboard splash.                        Sim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7112160" y="406440"/>
            <a:ext cx="208260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306360"/>
            <a:ext cx="966168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9999"/>
                </a:solidFill>
                <a:latin typeface="Comic Sans MS"/>
              </a:rPr>
              <a:t>Chapter 8: TPTs as Formative Assessment Tool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Formative Assessment Activities: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Comic Sans MS"/>
              </a:rPr>
              <a:t>Reading Your Students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: Teachers can view student journals or quick-writes to assess student's understanding of concept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Comic Sans MS"/>
              </a:rPr>
              <a:t>The One-Liner Wall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:  Teacher selects a sentence from student work and displays it on a wall for all to see and talk about.  This can help struggling students and encourage others.                                                     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im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49120" y="306360"/>
            <a:ext cx="9661680" cy="123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ea9999"/>
                </a:solidFill>
                <a:latin typeface="Comic Sans MS"/>
              </a:rPr>
              <a:t>Chapter 8: TPTs as Formative Assessment Tools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 u="sng">
                <a:solidFill>
                  <a:srgbClr val="ffffff"/>
                </a:solidFill>
                <a:uFillTx/>
                <a:latin typeface="Comic Sans MS"/>
              </a:rPr>
              <a:t>TPTs and Student Grad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hese assessments through TPT are important and should be documented as a grade.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Keep records of student progress and checklists.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Keep student portfolio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                             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im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5486400" y="1625760"/>
            <a:ext cx="4008600" cy="49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45880" y="304560"/>
            <a:ext cx="96678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9: Building a TPT-Conducive Classroo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n order for TPT to work, teachers must become comfortable with losing some of their "talking time" and letting children take the reign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must have confidence in their teacher, in their peers and in themselves, while teachers need to build confidence in their students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"What have you done today to build trust?"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                                                                  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. Webb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8229600" y="4876920"/>
            <a:ext cx="129384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5880" y="304560"/>
            <a:ext cx="96678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9: Building a TPT-Conducive Classroo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Rippling Quest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Pair students up and have them discuss the topic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Pair up pairs of students, so it is a group of four, to discuss their idea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Keep adding groups until you have whole group participatio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will feel more comfortable sharing answers if they have had time to discuss them with their peers before sharing out in a whole group sett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                                                            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. Webber           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4" descr=""/>
          <p:cNvPicPr/>
          <p:nvPr/>
        </p:nvPicPr>
        <p:blipFill>
          <a:blip r:embed="rId1"/>
          <a:stretch/>
        </p:blipFill>
        <p:spPr>
          <a:xfrm>
            <a:off x="304920" y="6197760"/>
            <a:ext cx="530388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5880" y="304560"/>
            <a:ext cx="96678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9: Building a TPT-Conducive Classroom 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alk around and provide feedback while students are discussing the topi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Instead of looking for a right or wrong answer, ask students to justify their answer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7160" indent="-285480">
              <a:lnSpc>
                <a:spcPct val="95000"/>
              </a:lnSpc>
              <a:buClr>
                <a:srgbClr val="ffffff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sk "Tell me more" to understand their thinking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                                                                      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. Webb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1015920" y="4673520"/>
            <a:ext cx="7012080" cy="23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45880" y="304560"/>
            <a:ext cx="9667800" cy="148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300" spc="-1" strike="noStrike">
                <a:solidFill>
                  <a:srgbClr val="ffffff"/>
                </a:solidFill>
                <a:latin typeface="Comic Sans MS"/>
              </a:rPr>
              <a:t>Chapter 1: The High Cost of Disengagement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he teachers who are considered excellent teachers engage their students actively and cognitively but also emotionally. MW (page 7)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hrough Total Participation Techniques all students are demonstrating that they are learning and interacting. (KM, page 7)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PTs allow students to become so actively involved in learning that they forget about all their outside issues and focus on their learning at school. (TR, pg 11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TPTs effectively take the focus off teaching, and puts it on what, and to what extent, students are learning. (CG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45880" y="304920"/>
            <a:ext cx="96678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omic Sans MS"/>
              </a:rPr>
              <a:t>Chapter 2: A Model for Total Participation &amp; Higher-Order Thinking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18880" y="1825560"/>
            <a:ext cx="6629400" cy="551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he purpose of TPTs (Total Participation Techniques) is to aim for deeper learning and engage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PTs require the use of higher-order thinking skills to ensure that students are cognitively engaged. 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mic Sans MS"/>
              </a:rPr>
              <a:t>Teachers must structure classroom content to ensure that learning will be engaging to all 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students and is meaningfu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6807240" y="2336760"/>
            <a:ext cx="2957400" cy="2981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7257960" y="6705720"/>
            <a:ext cx="24224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R. Bee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5880" y="304920"/>
            <a:ext cx="96678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ffffff"/>
                </a:solidFill>
                <a:latin typeface="Comic Sans MS"/>
              </a:rPr>
              <a:t>Chapter 2: A Model for Total Participation &amp; Higher-Order Thinking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15920" y="1727280"/>
            <a:ext cx="5270760" cy="555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A TPT Cognitive Engagement Model was created to help visualize the connection between student participation and higher order think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Most classroom activities should fall within the 4th quadrant of high cognition and high participation to ensure 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maximum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student learning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1"/>
          <a:stretch/>
        </p:blipFill>
        <p:spPr>
          <a:xfrm>
            <a:off x="406440" y="1727280"/>
            <a:ext cx="4140000" cy="41274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426960" y="6502320"/>
            <a:ext cx="251928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R. Beec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15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3: Total Participation Techniques Tools and Suppli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"</a:t>
            </a:r>
            <a:r>
              <a:rPr b="1" lang="en-US" sz="2900" spc="-1" strike="noStrike">
                <a:solidFill>
                  <a:srgbClr val="ffffff"/>
                </a:solidFill>
                <a:latin typeface="Comic Sans MS"/>
              </a:rPr>
              <a:t>Show me</a:t>
            </a: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"as you place greater expectations on student participation and on all students providing evidence of cognitive engagement opposed to question-answer sessio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omic Sans MS"/>
              </a:rPr>
              <a:t>For "Show Me" sessions use: individual slates, laminated light colored construction paper and flannel sock could work, true/not true cards could be used for several activities, multiple choice cards, processing card (lets the teacher know where the student is in their thinking process) A. Bolain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3: Tools &amp; Supplie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7320" y="1836720"/>
            <a:ext cx="4584600" cy="752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*Think, Pair, Share- think about it, pair up with a partner, share to each &amp; clas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PAUSE TO APPLY any of these! Ensure they're there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*H.O.T - how do these components think together or affect one another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*Quick writes- write to reflect    A. Bolain                                   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5" descr=""/>
          <p:cNvPicPr/>
          <p:nvPr/>
        </p:nvPicPr>
        <p:blipFill>
          <a:blip r:embed="rId1"/>
          <a:stretch/>
        </p:blipFill>
        <p:spPr>
          <a:xfrm>
            <a:off x="5384880" y="1257480"/>
            <a:ext cx="4132080" cy="3027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2"/>
          <a:stretch/>
        </p:blipFill>
        <p:spPr>
          <a:xfrm>
            <a:off x="6197760" y="4775040"/>
            <a:ext cx="26082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4: On-the-Spot TP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49200" y="1117080"/>
            <a:ext cx="8989920" cy="795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as this ever happened to you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You have an amazing lesson planned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ings are going great... or so you think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en you look up and realize that you were alone in this boat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You need to get this class engaged and you need to do it NOW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Use an On-the-Spot TPT!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What is an On-The-Spot TPT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Quick, 1-5 minute, activity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Engages ALL student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Virtually NO preparation required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Can be used as needed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Could be planned for during select times of your lesson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7969320" y="6603840"/>
            <a:ext cx="1857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. Goug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6299280" y="3454560"/>
            <a:ext cx="2066760" cy="18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ffffff"/>
                </a:solidFill>
                <a:latin typeface="Comic Sans MS"/>
              </a:rPr>
              <a:t>Chapter 4: On-the-Spot TP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3440" y="1320480"/>
            <a:ext cx="6146640" cy="86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Here are some quick, one-the-spot TPTs that will help your class get back on board with you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ink-Pair-Share: Ask a question, give think time, students pair up and discuss their respons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Quick-Write: Construct written responses to a given promp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Quick-Draw: Illustrate a given topi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Chalkboard Splash: A composition of everyone's responses to a prompt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Thumbs-Up When Ready: Hand signal to move 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omic Sans MS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7969320" y="6603840"/>
            <a:ext cx="18572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Comic Sans MS"/>
              </a:rPr>
              <a:t>C. Gough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6807240" y="3048120"/>
            <a:ext cx="2760480" cy="20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sbarker</cp:lastModifiedBy>
  <dcterms:modified xsi:type="dcterms:W3CDTF">2012-03-13T17:24:39Z</dcterms:modified>
  <cp:revision>1</cp:revision>
  <dc:subject/>
  <dc:title>PowerPoint Presentation</dc:title>
</cp:coreProperties>
</file>